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EAB-E70E-44A1-98FB-0C160142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C651-9071-4429-A589-C27850CF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1F8D-284B-4FD8-B037-56F2A0FC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782-1535-4759-A95C-34F6D318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C463-C484-424A-B492-85E990CA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39A-4388-4FD2-B8E5-7D0E6F42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470F-6F43-4C54-907E-14DF44D6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391-10EE-4E80-A47A-C4F34032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B39-B984-4224-A8B8-D0E1A3B7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2106-3361-43DC-9B93-AEA0F73022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D29-8EEA-4D79-9737-CD3B1216B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D1B-B47F-4BFF-8721-79168E6E2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F7C-9912-4075-B592-A496B856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578-7FAC-4293-B69C-267A6442D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C4C-F723-4D05-A0CD-16899AA6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8E8-47BE-4F22-8E6D-68BCB6E3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442-4620-4F78-A3A3-BC67E66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DB7-2229-4F69-A79E-0CA4F60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17F-B2EA-4443-924C-62D10007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B5F-B853-4A1C-8A2A-6FDAC4DA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A23-D270-4512-B4CA-C3A24784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435-3BB2-4B5D-9A34-B01404DE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83A-09D3-48B0-839A-79FC52C3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30E-F340-4A6E-A7F4-DAE4CFA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84E-3E77-404E-B42E-64EE5B58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0B7-88B1-4EC6-B873-CBA838BA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6CF-B15A-4ADB-9E99-C55CD30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FD5-05A8-4B59-9C09-07622CFB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9776-3F26-425D-ABDC-72377B1F3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72360" y="1197000"/>
            <a:ext cx="23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Growth that occurs due to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hysical cont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ile:Brunnichia ovata.jpg"/>
          <p:cNvPicPr/>
          <p:nvPr/>
        </p:nvPicPr>
        <p:blipFill>
          <a:blip r:embed="rId1"/>
          <a:stretch/>
        </p:blipFill>
        <p:spPr>
          <a:xfrm>
            <a:off x="176040" y="981000"/>
            <a:ext cx="58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024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nt horm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30" descr="File:Indol-3-ylacetic acid.svg"/>
          <p:cNvPicPr/>
          <p:nvPr/>
        </p:nvPicPr>
        <p:blipFill>
          <a:blip r:embed="rId1"/>
          <a:stretch/>
        </p:blipFill>
        <p:spPr>
          <a:xfrm>
            <a:off x="539640" y="1916280"/>
            <a:ext cx="2933640" cy="261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32" descr="File:Gibberellin A1.svg"/>
          <p:cNvPicPr/>
          <p:nvPr/>
        </p:nvPicPr>
        <p:blipFill>
          <a:blip r:embed="rId2"/>
          <a:stretch/>
        </p:blipFill>
        <p:spPr>
          <a:xfrm>
            <a:off x="4140360" y="1341360"/>
            <a:ext cx="45702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3809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Verdana"/>
              </a:rPr>
              <a:t>Auxin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allows the cells on the shaded side of the plant to grow and elongate.  This causes the plant to lean towards the light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umblr_m3lh4aTFK61rvu0g4o1_250"/>
          <p:cNvPicPr/>
          <p:nvPr/>
        </p:nvPicPr>
        <p:blipFill>
          <a:blip r:embed="rId1"/>
          <a:stretch/>
        </p:blipFill>
        <p:spPr>
          <a:xfrm>
            <a:off x="4140360" y="1916280"/>
            <a:ext cx="4876560" cy="43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29" descr="File:The effect of Gibberellins.svg"/>
          <p:cNvPicPr/>
          <p:nvPr/>
        </p:nvPicPr>
        <p:blipFill>
          <a:blip r:embed="rId1"/>
          <a:stretch/>
        </p:blipFill>
        <p:spPr>
          <a:xfrm>
            <a:off x="4500720" y="2276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slows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of au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fruit_ripe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 (important during wint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t2002b_s"/>
          <p:cNvPicPr/>
          <p:nvPr/>
        </p:nvPicPr>
        <p:blipFill>
          <a:blip r:embed="rId2"/>
          <a:stretch/>
        </p:blipFill>
        <p:spPr>
          <a:xfrm>
            <a:off x="684360" y="93492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ile:Auxin.jpg"/>
          <p:cNvPicPr/>
          <p:nvPr/>
        </p:nvPicPr>
        <p:blipFill>
          <a:blip r:embed="rId1"/>
          <a:stretch/>
        </p:blipFill>
        <p:spPr>
          <a:xfrm>
            <a:off x="250920" y="1022400"/>
            <a:ext cx="3581280" cy="5695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59280" y="198900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h-oh. Something went wrong. A plant hormone is missing in the plant on the left. Which one do you think it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dividual produced by a single parent by cell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ffspring is identical to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 need for a 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’t adapt quickly to changing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ile:Bryophyllum daigremontianum nahaufnahme1.jpg"/>
          <p:cNvPicPr/>
          <p:nvPr/>
        </p:nvPicPr>
        <p:blipFill>
          <a:blip r:embed="rId1"/>
          <a:stretch/>
        </p:blipFill>
        <p:spPr>
          <a:xfrm>
            <a:off x="4419720" y="2155680"/>
            <a:ext cx="44384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bot_tobacco"/>
          <p:cNvPicPr/>
          <p:nvPr/>
        </p:nvPicPr>
        <p:blipFill>
          <a:blip r:embed="rId2"/>
          <a:stretch/>
        </p:blipFill>
        <p:spPr>
          <a:xfrm>
            <a:off x="3995640" y="1268280"/>
            <a:ext cx="2887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ile:Bright red tomato and cross section02.jpg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859280" y="134136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foodsubs.com/Photos/tomato-green.jpg"/>
          <p:cNvPicPr/>
          <p:nvPr/>
        </p:nvPicPr>
        <p:blipFill>
          <a:blip r:embed="rId3"/>
          <a:stretch/>
        </p:blipFill>
        <p:spPr>
          <a:xfrm>
            <a:off x="4629240" y="1700280"/>
            <a:ext cx="412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iz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pretty animated GIF "/>
          <p:cNvPicPr/>
          <p:nvPr/>
        </p:nvPicPr>
        <p:blipFill>
          <a:blip r:embed="rId1"/>
          <a:stretch/>
        </p:blipFill>
        <p:spPr>
          <a:xfrm>
            <a:off x="179280" y="1844640"/>
            <a:ext cx="6021360" cy="33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www.foodsubs.com/Photos/tomato-green.jpg"/>
          <p:cNvPicPr/>
          <p:nvPr/>
        </p:nvPicPr>
        <p:blipFill>
          <a:blip r:embed="rId2"/>
          <a:stretch/>
        </p:blipFill>
        <p:spPr>
          <a:xfrm>
            <a:off x="3995640" y="1557360"/>
            <a:ext cx="4122720" cy="4179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54600" y="602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ant to prepare this tomato to be shipped to Antarct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dividual produced from fusion of sex cells (from 2 par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ot  genetically identical to parents (half of genetic material from each par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cialized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ed to attract 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ility to adapt quickly t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File:Hosta3.jpg"/>
          <p:cNvPicPr/>
          <p:nvPr/>
        </p:nvPicPr>
        <p:blipFill>
          <a:blip r:embed="rId1"/>
          <a:stretch/>
        </p:blipFill>
        <p:spPr>
          <a:xfrm>
            <a:off x="5796000" y="3213000"/>
            <a:ext cx="2808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35-12-MajorMeristems-L"/>
          <p:cNvPicPr/>
          <p:nvPr/>
        </p:nvPicPr>
        <p:blipFill>
          <a:blip r:embed="rId1"/>
          <a:stretch/>
        </p:blipFill>
        <p:spPr>
          <a:xfrm>
            <a:off x="468360" y="1052640"/>
            <a:ext cx="5011560" cy="55688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504040" y="1166760"/>
            <a:ext cx="346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s of a plant where growth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ifferentiated cells become new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ke stem cells for pl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rticle-new-ehow-images-a06-m6-12-factors-germination-mung-beans-grow-1"/>
          <p:cNvPicPr/>
          <p:nvPr/>
        </p:nvPicPr>
        <p:blipFill>
          <a:blip r:embed="rId1"/>
          <a:stretch/>
        </p:blipFill>
        <p:spPr>
          <a:xfrm>
            <a:off x="1692360" y="1879560"/>
            <a:ext cx="6003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File:Photosynthesis.gif"/>
          <p:cNvPicPr/>
          <p:nvPr/>
        </p:nvPicPr>
        <p:blipFill>
          <a:blip r:embed="rId1"/>
          <a:stretch/>
        </p:blipFill>
        <p:spPr>
          <a:xfrm>
            <a:off x="4584600" y="1628640"/>
            <a:ext cx="36655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2081938105_3cb639bea5"/>
          <p:cNvPicPr/>
          <p:nvPr/>
        </p:nvPicPr>
        <p:blipFill>
          <a:blip r:embed="rId1"/>
          <a:stretch/>
        </p:blipFill>
        <p:spPr>
          <a:xfrm>
            <a:off x="1619280" y="2708280"/>
            <a:ext cx="5761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phototropism-11911"/>
          <p:cNvPicPr/>
          <p:nvPr/>
        </p:nvPicPr>
        <p:blipFill>
          <a:blip r:embed="rId1"/>
          <a:stretch/>
        </p:blipFill>
        <p:spPr>
          <a:xfrm>
            <a:off x="5181480" y="3851280"/>
            <a:ext cx="3276720" cy="300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4920" y="952560"/>
            <a:ext cx="3504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Light affects the growth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arts of the plant that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ositively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hototrophi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are the leaves and 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arts that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negatively phototrophi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are th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Sunflowers"/>
          <p:cNvPicPr/>
          <p:nvPr/>
        </p:nvPicPr>
        <p:blipFill>
          <a:blip r:embed="rId2"/>
          <a:stretch/>
        </p:blipFill>
        <p:spPr>
          <a:xfrm>
            <a:off x="4067280" y="87948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Gravitropismwlight"/>
          <p:cNvPicPr/>
          <p:nvPr/>
        </p:nvPicPr>
        <p:blipFill>
          <a:blip r:embed="rId1"/>
          <a:stretch/>
        </p:blipFill>
        <p:spPr>
          <a:xfrm>
            <a:off x="3780000" y="18558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08000" y="1700280"/>
            <a:ext cx="33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oots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positively gravi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tems and leaves are </a:t>
            </a:r>
            <a:r>
              <a:rPr b="0" lang="en-CA" sz="2400" spc="-1" strike="noStrike">
                <a:solidFill>
                  <a:srgbClr val="008000"/>
                </a:solidFill>
                <a:latin typeface="Verdana"/>
              </a:rPr>
              <a:t>negatively gravitropic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(they tend to grow in a direction against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Matt</cp:lastModifiedBy>
  <dcterms:modified xsi:type="dcterms:W3CDTF">2015-10-14T15:23:38Z</dcterms:modified>
  <cp:revision>57</cp:revision>
  <dc:subject/>
  <dc:title>Plant Growth</dc:title>
</cp:coreProperties>
</file>